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2FF-C2E5-4DBF-894B-E7323D50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265-6649-4843-9523-5B3FC8F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D2E-615D-435D-9C3E-27F721B5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F13-8485-4BEF-BE4E-2C34D055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DD5-2234-43AA-AECA-FC5731D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3D6-B573-4823-9AD3-FBF3908F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2A2-8C03-494E-9334-61FB4911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F6B-B5AE-45A4-8984-04F3E6F6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DC5-F036-4D17-ADD9-969F52E8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3C8-3781-47EA-8FDD-34DFDFD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AB1-B2C5-44A5-90BC-41ADF2C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ED7-D2CB-4B1C-AE8E-87ED05B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2BE3-3C7F-4F4A-99B8-3BE6591AFBF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9640" y="12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4.4 Writing Newspaper 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88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KE SURE YOU HAVE INCLUDED ALL OF THE MOST IMPORTANT INFORMATION (5 W’S AND 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OF READ (SPELLING, QUOTATION MARKS, GRAMMAR, PUNC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1"/>
          <a:stretch/>
        </p:blipFill>
        <p:spPr>
          <a:xfrm>
            <a:off x="-12600" y="1127160"/>
            <a:ext cx="8692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289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524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1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itl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o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re 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y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356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ather 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formation that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5 W’s and how. 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nformation o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emplate in point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-334800" y="841320"/>
            <a:ext cx="7064280" cy="153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1976400"/>
            <a:ext cx="40672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859280" y="1557360"/>
            <a:ext cx="38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o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re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y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ow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1557360"/>
            <a:ext cx="4859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076720" y="1413000"/>
            <a:ext cx="388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epare some quotes from someone that would have been interviewed for your st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se quotes would have been coming from somebody that had witnessed the event taking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Quotes make your story more solid and believable, first hand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1"/>
          <a:stretch/>
        </p:blipFill>
        <p:spPr>
          <a:xfrm>
            <a:off x="-79200" y="1243080"/>
            <a:ext cx="5236920" cy="113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0" y="2131920"/>
            <a:ext cx="50767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274680" y="1494000"/>
            <a:ext cx="8412120" cy="463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2131920"/>
            <a:ext cx="5076720" cy="4610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370480" y="263700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Calibri"/>
              </a:rPr>
              <a:t>Think of a catchy headli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-334800" y="1200240"/>
            <a:ext cx="7119720" cy="1536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0" y="2565360"/>
            <a:ext cx="3995640" cy="4292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500720" y="285264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Write one or two sentences that tell what happened and that will catch the interest of the rea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-353880" y="1060560"/>
            <a:ext cx="9272520" cy="153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9360" y="2276640"/>
            <a:ext cx="3780000" cy="4581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427640" y="2565360"/>
            <a:ext cx="4167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Use your notes to write sentences that give some background on the event or give details that help to answer the 5 W’s and h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3924360" cy="45086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4" descr=""/>
          <p:cNvPicPr/>
          <p:nvPr/>
        </p:nvPicPr>
        <p:blipFill>
          <a:blip r:embed="rId2"/>
          <a:stretch/>
        </p:blipFill>
        <p:spPr>
          <a:xfrm>
            <a:off x="-55440" y="1060560"/>
            <a:ext cx="9278640" cy="153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584600" y="2276640"/>
            <a:ext cx="416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clude at least 2 quotations from people who were intervi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plain where the quote came from, who that person is, and where they were when the event happe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Steps to writing a newspaper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208080" y="1457280"/>
            <a:ext cx="8564400" cy="466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3924360" cy="4508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4427640" y="2421000"/>
            <a:ext cx="43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rite a sentence that explains the possible consequences of the event, or what might happen n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29:50Z</dcterms:created>
  <dc:creator>Jason</dc:creator>
  <dc:description/>
  <dc:language>en-US</dc:language>
  <cp:lastModifiedBy>Jason</cp:lastModifiedBy>
  <dcterms:modified xsi:type="dcterms:W3CDTF">2011-04-28T16:45:31Z</dcterms:modified>
  <cp:revision>5</cp:revision>
  <dc:subject/>
  <dc:title>4.4 Writing Newspaper Articles</dc:title>
</cp:coreProperties>
</file>